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3ED-329E-44C8-B6A9-012E4296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5E8-975F-431A-B4B5-E5F9F4C5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82A-40DD-44D7-98A1-EC2AD39F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1D4-7A5B-44A0-8A77-750C1591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676-DF7A-4405-8FBD-D66CE683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FADF-59B1-47E2-BF8D-D6A72F09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A146-3B9C-4B39-A136-BD3E5DA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51E9-BD30-48A6-A880-7E04080D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5E3-3655-4EB7-B056-FC52378A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39A2-18C4-4C0C-A715-ABC743CB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018E-4CF8-45AB-943C-0140842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C25-A723-44DE-9FDB-DC2A4BE3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6072-E6FA-4055-980B-7AC8825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A406-C720-49E2-91FA-807CEEAA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4EC9-2CC6-48E7-B0BD-8546715A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089B-CD12-4AE8-B96B-F38A895D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536C-DEEE-421D-ACE5-89609BCA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8A2-7ABC-40DA-9A20-DFDAE0C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F3D-0B67-4258-8DC2-007D164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A3A-7245-4759-94D5-F073C562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07B-5D77-42EF-9E37-C19844F6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91D-B81F-4981-B97E-85CD93EC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55A-6C7B-4175-9AD9-870CF29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83A-BA25-4CB9-85E4-9916BFC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2587-082C-4053-AC9E-63E6594F3C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D8B3-365C-4C2C-ABDC-26EE5E8E66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t’s get Fisc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Democracy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Greeks, means “Rule by the people”.  Democracy gives citizens a voice in their gover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at is the </a:t>
            </a: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job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of the governmen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ety is complex….think of all the things that make up the way we l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government is a system of organization and management for these th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There are three levels of Canadian government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cip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Based in towns, run by council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n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ased in Provincial Capitals and run by Prem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de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ased in Country Capital (Ottawa) and run by Prime Min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ut who picks up my garbag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evel of government has different responsibilities.  Which of the three levels of government is in charge of the following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cip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et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ssignmen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wn words, come up with definitions fo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tu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v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3:53:17Z</dcterms:created>
  <dc:creator>Administrator</dc:creator>
  <dc:description/>
  <dc:language>en-US</dc:language>
  <cp:lastModifiedBy>Administrator</cp:lastModifiedBy>
  <dcterms:modified xsi:type="dcterms:W3CDTF">2007-02-13T16:41:18Z</dcterms:modified>
  <cp:revision>4</cp:revision>
  <dc:subject/>
  <dc:title>Politics</dc:title>
</cp:coreProperties>
</file>